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23A5-4823-4698-8A2A-11CFD0A36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2787-F39B-486A-B5CD-328FA266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E491-A458-4955-9D90-D6897C751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FE69-E8C0-44CB-A703-D6DD83B3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4D20-7DA9-4ED9-94D9-EC1E1F24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FF02-780B-4602-99B8-673A46AB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1267-B4DE-4FB8-A212-3FA6D6A5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5B32-E2B9-4DE5-9225-D1881674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9BA7-34F8-46F6-91D4-C1197F01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3BD9-87D2-495A-9D25-B7F0AA1C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D4BC-C2AA-474E-AA64-21BE1C89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C1C3-D154-40F1-8ECA-33F872FC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33AD-6080-4945-AA4C-5C6219318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-ag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Word Famil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895480" y="2743200"/>
            <a:ext cx="7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274320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8380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r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666880" y="4572000"/>
            <a:ext cx="2438640" cy="164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429000" y="266688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43200" y="9144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s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14600" y="26668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8120" y="4495680"/>
            <a:ext cx="2054160" cy="18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429000" y="266688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9144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fl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14600" y="26668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f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048120" y="4191120"/>
            <a:ext cx="2361960" cy="192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429000" y="266688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9144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st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2666880"/>
            <a:ext cx="1295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s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581280" y="4267080"/>
            <a:ext cx="1500480" cy="18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733920" y="27432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19720" y="2743200"/>
            <a:ext cx="167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b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9880" y="4191120"/>
            <a:ext cx="209088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1280" y="2819520"/>
            <a:ext cx="7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14800" y="281952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g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429000" y="27432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14800" y="274320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h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581280" y="4114800"/>
            <a:ext cx="167004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05320" y="27432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14800" y="274320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l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010280" y="4495680"/>
            <a:ext cx="1150920" cy="1430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095880" y="4876920"/>
            <a:ext cx="1150920" cy="1430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772400" y="4876920"/>
            <a:ext cx="1150920" cy="1430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410080" y="4267080"/>
            <a:ext cx="1150920" cy="1430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1219320" y="4876920"/>
            <a:ext cx="1150920" cy="1430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43000" y="3809880"/>
            <a:ext cx="457200" cy="99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819520" y="2743200"/>
            <a:ext cx="1447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b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274320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9144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br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819520" y="274320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s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274320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914400"/>
            <a:ext cx="2971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sn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819520" y="274320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d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274320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9144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dr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1280" y="243828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91120" y="2438280"/>
            <a:ext cx="167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n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352680" y="4038480"/>
            <a:ext cx="183672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03:28:54Z</dcterms:created>
  <dc:creator>Wake County Public Schools</dc:creator>
  <dc:description/>
  <dc:language>en-US</dc:language>
  <cp:lastModifiedBy>beth_ware</cp:lastModifiedBy>
  <dcterms:modified xsi:type="dcterms:W3CDTF">2007-04-07T12:18:56Z</dcterms:modified>
  <cp:revision>12</cp:revision>
  <dc:subject/>
  <dc:title>-ill Word Family</dc:title>
</cp:coreProperties>
</file>